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947-FE0F-43D0-98A5-E42ED991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0C9-110D-4D75-8C9C-6838E1A9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9F2-AE43-405C-9A1E-0C723EE2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6E2-DCA4-4D1F-A96B-CFA3A774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CB1D3-0E07-43F8-9225-F71519E7B7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5C018-6167-42DA-AEA4-1D54795B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E6A0D-E14B-4008-A023-B4F4840A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EDDEC-E7AB-4D72-BDCA-82586EE9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0ABAA-D58C-468E-9DE4-90AC5A94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6DA64-8B7F-479C-B6F1-BA5C5CE2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D3FBE-A304-4385-B559-230521BF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F855-390B-425A-95A4-1C526516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CBC76-6A87-474A-8AEA-CE96D98B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DDE50-C8EC-4EFA-ACDD-C84BAA47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AA129-6B46-4466-8AB5-F2973FCB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765EA-B91E-4A86-A3B7-09C2B5C3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6969D-CC17-405B-B36C-A1DA2BCB13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813-1CE5-487E-B901-7975DD6F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AEF-2131-45FD-A435-A5670C81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36D-509B-4FFA-9C06-E3BBFEEF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B80-5772-485B-9CD7-A209F598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B7F-02F9-4C89-BC0E-B7673302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29C-33E4-4CC2-8BB4-8A9CC4F1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F79-55FA-43C8-89B5-360A65E4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B47C-D20E-4051-9B51-38F35AB1B45F}" type="slidenum"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84440" y="64771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Magíster en gestión de operacion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E9C2-FF34-4FFE-8851-57B9154CF5E6}" type="slidenum"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2046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바탕"/>
              </a:rPr>
              <a:t>Presentación tema de tesis:</a:t>
            </a:r>
            <a:br>
              <a:rPr sz="3000"/>
            </a:br>
            <a:br>
              <a:rPr sz="3000"/>
            </a:b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Desarrollo de un modelo para el diseño de licitaciones aplicado en el ministeri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42920" y="259920"/>
            <a:ext cx="601956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Facultad de Ciencias Físicas y Matemática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Departamento de Ingeniería Industria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Magíster en gestión de operacion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85080" y="260280"/>
          <a:ext cx="8380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260280"/>
                    <a:ext cx="8380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859280" y="4581360"/>
            <a:ext cx="514836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Alumno</a:t>
            </a: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Matías Pulido Solar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Profesor guía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Samuel Vara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Fecha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20-10-04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바탕"/>
              </a:rPr>
              <a:t>Licitación actual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Horizontes cortos de tiemp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ases no consideran algunos trade off como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Número de proveedores v/s probabilidad quiebre 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Número de proveedores v/s volumen a negoc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antidad a licitar v/s costo 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Modalidad actual provoca pocas ofert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Multas mal dimensionad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No existe un modelo formal de evaluación para la adjudicación (fuera del alcance del tema de tesis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Posibles enf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rogramación matemá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Función objetivo que incorpore trade-of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Restricciones a estud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onsiderando información histór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enchmark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onsiderando programas similares a nivel internaciona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nalizando implicancias de determinados diseño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Bibliografía consul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rogramación entera mejora el proceso de licitación de raciones alimenticias”. Epstein, Henriquez, Catalán, Weintraub y Martinez. Marzo, 2001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The design of auctions and tenders with quality thresholds: The symmetric case”. Martin Cripps, Norman Ireland.1994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uctions and bidding: A primer”. Paul Milgrom. Journal of Economics perspectives. Volumen 3, Número 3. 1989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Bases administrativas productos PNAC y PACAM, 30 de Abril de 2004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Carta Gan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gunt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48247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바탕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Introducci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Descripción del proble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osibles enfoqu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ibliografía consult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Carta gant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22957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ones de servicios públicos: una tendencia mundia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ón eficient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Gana la mejor ofer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Valores priva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Resultados equivalentes sin importar modalidad de licitació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2 etapa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Diseñ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djudicació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71640" y="1773360"/>
          <a:ext cx="7151760" cy="4573440"/>
        </p:xfrm>
        <a:graphic>
          <a:graphicData uri="http://schemas.openxmlformats.org/drawingml/2006/table">
            <a:tbl>
              <a:tblPr/>
              <a:tblGrid>
                <a:gridCol w="1903320"/>
                <a:gridCol w="2863800"/>
                <a:gridCol w="2384640"/>
              </a:tblGrid>
              <a:tr h="1099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tapa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Desafíos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Características estudios previos realizados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2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Diseño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Bases atractiva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Incentivos a cumpli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Bases orientadas a la        reducción de costos de L.P.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conómicos (teoría de agenci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Técn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Adjudicación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Asignación proveedor óptimo.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Operacione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conóm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Técn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Licitación de programas de alimentación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PNAC: Orientado a mujeres embarazadas, nodrizas de bajo peso y niños menores de 6 año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PACAM: Orientado a adultos mayor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resupuesto anual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바탕"/>
              </a:rPr>
              <a:t>$30,000 millon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1655640" cy="1082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84360" y="3068640"/>
            <a:ext cx="1944720" cy="1276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32360" y="2995560"/>
            <a:ext cx="1206360" cy="1486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79640" y="357192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634080" y="3067200"/>
            <a:ext cx="1216080" cy="122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570800" y="2851200"/>
            <a:ext cx="1573200" cy="1000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7929720" y="3859200"/>
            <a:ext cx="849240" cy="118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00720" y="35719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5719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2400" y="530064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1.100.000 beneficiari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3960" y="465120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481 Consultori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1161 Postas rurale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9640" y="17002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92929"/>
                </a:solidFill>
                <a:latin typeface="바탕"/>
              </a:rPr>
              <a:t>Cadena logís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roductos entregado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NAC: Leche fortificada, leche cereal y sop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ACAM: Sopa crem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42920" y="3213000"/>
          <a:ext cx="676908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213000"/>
                    <a:ext cx="67690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Importancia del rol de proveedor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ocial: Gravedad de quiebres de stock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Económico: Importancia en estructura de costo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3095640"/>
            <a:ext cx="6481800" cy="376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676120" y="3789360"/>
            <a:ext cx="346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Se licit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$27,000 millones!!!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ón actual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Se licita mediante 2 modalidad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direc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por CENABAST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División geográfica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directa: 4 zonas independient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por CENABAST: No existe división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djudicación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Comisión decida cualitativam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e considera principalmente precio y comportamiento anterior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e adjudica modalidad más conveni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5:20:33Z</dcterms:created>
  <dc:creator>Juan Pablo Torres</dc:creator>
  <dc:description/>
  <dc:language>en-US</dc:language>
  <cp:lastModifiedBy>julie lagos</cp:lastModifiedBy>
  <dcterms:modified xsi:type="dcterms:W3CDTF">2004-10-22T14:10:31Z</dcterms:modified>
  <cp:revision>51</cp:revision>
  <dc:subject/>
  <dc:title>Diapositiva 1</dc:title>
</cp:coreProperties>
</file>